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7041-5D59-49D0-B7E2-2B6839759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59AB-3C23-4E4F-8264-DA95C4941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353E-7D5D-4E8D-8FDB-396E22972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FE29-D0CC-468A-8C73-9120B3FEC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0EF8-9E41-4A6E-822A-696AC5596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4FC3-C755-4259-B5EE-65A10F1C7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B4AA-4FFC-4922-9352-6D53DFC69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1E3C-2785-497A-A96A-BC6DA4CEE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F603-8687-4420-BA68-643D06F45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FFD6-9FC2-4518-B03B-62D56650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B5D8-BD2C-420D-A4AB-74B23AEC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91B3-3273-45A1-94B0-4F5EA64A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08F23-0328-42A0-B537-1FAEFC8E988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28600" y="457200"/>
            <a:ext cx="8610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200" spc="-1" strike="noStrike">
                <a:solidFill>
                  <a:srgbClr val="000000"/>
                </a:solidFill>
                <a:latin typeface="comic"/>
              </a:rPr>
              <a:t>MENULIS PARAGRA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바탕"/>
                <a:ea typeface="바탕"/>
              </a:rPr>
              <a:t>Pengertian paragraf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바탕"/>
                <a:ea typeface="바탕"/>
              </a:rPr>
              <a:t>Paragraf merupakan inti penuangan buah pikiran dalam sebuah karangan  (Muhammad Rohmadi, dkk. 2008: 105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바탕"/>
                <a:ea typeface="바탕"/>
              </a:rPr>
              <a:t>Keraf (dalam Muhammad Rohmadi, dkk. 2008: 105) menyebut paragraf dengan istilah alinea. Alinea adalah kesatuan pikiran yang lebih tinggi atau lebih luas dari kalima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바탕"/>
                <a:ea typeface="바탕"/>
              </a:rPr>
              <a:t>Asul Wiyanto (2004: 15) paragraf adalah sekelompok kalimat yanag saling berhubungan dan bersama-sama menjelaskan satu unit buah pikiran untuk mendukung buah pikiran yang lebih besar, yaitu buah pikiran yang diungkapkan dalam seluruh tulisa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228240"/>
            <a:ext cx="8229600" cy="60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MACAM-MACAM  PARAGRAF DAN PENGEMBANGANNY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ada dasarnya macam paragraf dan pengembangannya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iklasifikasikan sebagai berikut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erdasarkan 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 tekniknya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a. secara alamiah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b. klimaks dan antiklimak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c. umum-khusu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Berdasarkan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ujuannya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. paragraf pembuka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. paragraf penghubung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. paragraf penutup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erdasarkan isi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. pertentangan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. 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perbandingan (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nalogi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. contoh-contoh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. sebab akibat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. definisi luas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. klasifik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304560"/>
            <a:ext cx="8229600" cy="60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rdasarkan tujuan dan sifatny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paragraf deskripsi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paragraf narasi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 paragraf eksposisi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. paragraf argumentasi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. paragraf persuas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TAK KALIMAT UT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76176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a empat cara untuk meletakkan kalimat utama, yaitu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da awal paragra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da akhir paragra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da awal dan akhir paragra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npa kalimat uta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Baskerville Old Face"/>
              </a:rPr>
              <a:t>KEGUNAAN PARAGRA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465120" indent="-34920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000" spc="-1" strike="noStrike">
                <a:solidFill>
                  <a:srgbClr val="000000"/>
                </a:solidFill>
                <a:latin typeface="Baskerville Old Face"/>
              </a:rPr>
              <a:t>Kegunaan paragraf diantaranya yaitu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65120" indent="-34920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Baskerville Old Fa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000" spc="-1" strike="noStrike">
                <a:solidFill>
                  <a:srgbClr val="000000"/>
                </a:solidFill>
                <a:latin typeface="Baskerville Old Face"/>
              </a:rPr>
              <a:t>Untuk menandai paembukan topik baru, atau pengembangan lebih lanjut topik sebelumnya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65120" indent="-34920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Baskerville Old Fa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000" spc="-1" strike="noStrike">
                <a:solidFill>
                  <a:srgbClr val="000000"/>
                </a:solidFill>
                <a:latin typeface="Baskerville Old Face"/>
              </a:rPr>
              <a:t>Untuk menambah hal-hal yang penting atau untuk merinci apa yang sudah diutarakan dalam paragraf sebelumnya atau paragraf yang terdahulu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65120" indent="-349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Bernard MT Condensed"/>
              </a:rPr>
              <a:t>UNSUR-UNSUR PARAGRA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ndalus"/>
                <a:ea typeface="Andalus"/>
              </a:rPr>
              <a:t>Asul Wiyanto (2004:20) menyatakan bahwa untuk menyusun paragraf secara logis dan sistematis maka diperlukan unsur paragraf antara lai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ndalus"/>
                <a:ea typeface="Andalus"/>
              </a:rPr>
              <a:t>1. Transis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ndalus"/>
                <a:ea typeface="Andalus"/>
              </a:rPr>
              <a:t>2. Kalimat topik atau kalimat uta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ndalus"/>
                <a:ea typeface="Andalus"/>
              </a:rPr>
              <a:t>3. Kalimat penjel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ndalus"/>
                <a:ea typeface="Andalus"/>
              </a:rPr>
              <a:t>4. Kalimat pene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274320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eeece1"/>
                </a:solidFill>
                <a:latin typeface="comic"/>
                <a:ea typeface="Arabic Typesetting"/>
              </a:rPr>
              <a:t>1. TRANSIS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295280"/>
            <a:ext cx="82296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Transisi terbagi menjadi beberapa hal di bawah ini, yaitu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id-ID" sz="1600" spc="-1" strike="noStrike">
                <a:solidFill>
                  <a:srgbClr val="000000"/>
                </a:solidFill>
                <a:latin typeface="Calibri"/>
              </a:rPr>
              <a:t>Transisi berupa kata (kelompok kata)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, pada dasarnya dikelompokkan berdasarkan penanda hubungannya, antara lain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a. penanda hubungan kelanjutan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dan, serta, lagi pula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bahkan, kedua, ketiga, selanjutnya, akhirnya, ds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b. penanda hubungan waktu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dahulu, sekarang, kini, kelak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nanti, setelah, sesudah, tahun depan, besok lusa, ds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penanda klimaks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paling..., se...nya, ter..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d. penanda perbandingan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seperti, ibarat, sama, bak, ds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e. penanda kontras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tetapi, biarpun, walaupun, ds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penanda urutan jarak: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 di sana, di situ, dekat, sebelah, ds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.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penanda ilustrasi: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 umpama, contoh, misalny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.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penanda sebab akibat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sebab, oleh sebab itu, oleh karena, ds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 penanda syarat (pengandaian)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jika, kalau, jikalau, andaikata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seandainy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j.  penanda kesimpulan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ringkasnya, kesimpulannya, garis besarnya,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rangkuma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buClr>
                <a:srgbClr val="000000"/>
              </a:buClr>
              <a:buFont typeface="Calibri"/>
              <a:buAutoNum type="alpha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400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533520"/>
            <a:ext cx="8229600" cy="57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1" lang="id-ID" sz="2400" spc="-1" strike="noStrike">
                <a:solidFill>
                  <a:srgbClr val="000000"/>
                </a:solidFill>
                <a:latin typeface="Calibri"/>
              </a:rPr>
              <a:t>Transisi berupa kali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1800" indent="-40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Kalimat yang digunakan sebagai transisi dikenal pula dengan istilah kalimat penuntun (prolo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1800" indent="-40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Contoh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1800" indent="-40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id-ID" sz="2400" spc="-1" strike="noStrike">
                <a:solidFill>
                  <a:srgbClr val="000000"/>
                </a:solidFill>
                <a:latin typeface="Calibri"/>
              </a:rPr>
              <a:t>Ringkasnya, morfologi adalah bagian dari ilmu bahasa yang membicarakan seluk beluk kata</a:t>
            </a:r>
            <a:r>
              <a:rPr b="0" i="1" lang="id-ID" sz="2400" spc="-1" strike="noStrike">
                <a:solidFill>
                  <a:srgbClr val="000000"/>
                </a:solidFill>
                <a:latin typeface="Calibri"/>
              </a:rPr>
              <a:t>. Yang dibicarakan dalam morfologi adalah perubahan-perubahan bentuk kata, baik dengan afiksasi, reuplikasi, maupun komposisi.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1800" indent="-40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1800" indent="-40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. </a:t>
            </a:r>
            <a:r>
              <a:rPr b="1" lang="id-ID" sz="2400" spc="-1" strike="noStrike">
                <a:solidFill>
                  <a:srgbClr val="000000"/>
                </a:solidFill>
                <a:latin typeface="Calibri"/>
              </a:rPr>
              <a:t>Transisi berupa paragraf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9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Adakalanya transisi berupa paragraf pendek. Transisi ini digunakan untuk membelokkan pembahasan dari satu pokok pikiran ke pokok pikiran yang lain. Paragraf ini berfungsi untuk menjembatani paragraf sebelumny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41800" indent="-406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45720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Kalimat Ut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alimat Utama  adalah kalimat yang mengadu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kok  pikiran  paragraf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alimat penjel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nurut Asul Wiyanto (2006: 27-30) menyatakan bahwa kalimat penjelas berisi pikiran penjelas yang di wujudkan dalam kalimat-kalimat yang isinya menjelaskan, merinci, membandingkan atau memberi contoh secara khusu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alimat peneg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ehadiran kalimat penegas dalam suatu paragraf tidak mutlak. Artinya, boleh ada, boleh tidak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ARAT-SYARAT  PEMBENTUKAN PARAGRA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syaratan paragraf yait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Kesatuan (kohes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agraf dianggap mempunyai kesatuan jika kalimat-kalimat dalam paragraf itu tidak terlepas dengan topiknya atau relevan dengan topi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Kepaduan (koherens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alimat antar paragraf haruslah memiliki hubungan timbal balik, adapun kepaduan sebuah paragraf dibangun dengan memperhatika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. unsur kebahasaan yang digambarkan denga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) repetisi atau pengulangan kata kunc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) kata gant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) kata transisi atau ungkapan penghubu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. pemerincian dan urutan isi paragraf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Kelengkap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paragraf harus memuat adanya kohesi dan koherensi secara utuh agar membentuk organisme kalimat yang mudah dipaham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533520"/>
            <a:ext cx="8229600" cy="57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Panjang paragraf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Paragraf  minimal harus terdiri dari dua kalimat panjang. Atau jika terdiri lebih dari tiga kalimat bisa menggunakan tiga kalimat pendek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Pola susunan paragraf</a:t>
            </a: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Pola susunan paragraf ada dua macam sebagaimana contoh beriku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---------------------------------------------------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000000"/>
                </a:solidFill>
                <a:latin typeface="Calibri"/>
              </a:rPr>
              <a:t>Lanjutan..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914400"/>
            <a:ext cx="8229600" cy="53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b. 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7T13:14:16Z</dcterms:created>
  <dc:creator>User</dc:creator>
  <dc:description/>
  <dc:language>en-US</dc:language>
  <cp:lastModifiedBy>HEWLET PACKARD</cp:lastModifiedBy>
  <dcterms:modified xsi:type="dcterms:W3CDTF">2014-01-19T14:40:21Z</dcterms:modified>
  <cp:revision>24</cp:revision>
  <dc:subject/>
  <dc:title>Slide 1</dc:title>
</cp:coreProperties>
</file>