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7B3-89DB-49C6-BCF4-44E9C3EA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2D7-3CB6-45E3-B262-246E2E44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6CD-AB80-4C53-9472-9EFED972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97E-038C-4CD4-A1EE-DB3CB568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A743-2195-42BA-BC70-B90B1E03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320A-F399-4373-98D0-972670B3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A29C-AC05-4BEB-8C65-8F1D47F2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F80A-73EC-4541-9635-87785645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DF0E-C044-4FBB-83C6-E734D812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75BF-6707-4AA5-9586-ACB67B68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28B5-0402-47E8-BE72-0B61EDC8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534-8E19-4AA5-A4B0-9BA418D2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97D8-6E74-46B1-BAB6-E66B4778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2090-07E0-42A2-B216-8F0A73D0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5CF2-CA53-4D2D-A65F-159E3B5B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9A83-45AA-4BBA-AD66-95E3980B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7861-4146-4FFE-8142-C615A4D6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CC4B6-A052-4B65-A0BC-45EE15E6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00634-22EB-402F-838F-943BBF76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D10E4-4E84-4DD0-83E8-4042C819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7E3B0-29DD-4B6F-B03B-4111B079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19379-BDA7-4389-9538-011681F4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4BDB-B534-4CAD-A6BB-17BD08AD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367DC-28CE-4BF1-9E34-074BF920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7FA2E-AE9D-436A-8E52-14DDB1A6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C5CAA-D644-4C8A-A4DF-93D089EA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5FCB2-9FC5-43B2-8E53-41079EE0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2DFC3-82D0-4EFD-A2B3-79CD8498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915D9-CCCC-4B47-B63F-08A048FB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2EEA3-C63B-4A56-AA18-1E058B3C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7559D-BA98-4589-9E08-A57C2B9E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4EE74-C300-4C26-8B97-C8E523E7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52620-2548-4A90-B10C-16925E99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30E-AF2D-45A5-83E8-B4B2D8EA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70EC-7493-42BC-97DC-6FB127DA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A7ED0-2574-4CAF-B121-0001C6D7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3C729-3D8C-4DEC-A5D8-B5AAB1E7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358A5-DE88-41D2-BD79-7E90679E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3FCA3-10E3-44EE-B91C-F14BB5E4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E8904-8D8A-4B9F-981B-6EBCDE8A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C1C82-B2E0-47E6-8B2F-D0BA4DDE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DD05A-E12E-4049-9455-47DC3AF8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93932-4021-410E-A9A8-5D548C0A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D3C-7A65-44B9-BF61-0226CFE9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C0F-20AD-4A86-9B0F-C934D347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5584-9B63-4398-B7F9-50F486B6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4624-A1F8-472D-8FAD-43CFC632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27F-3D38-473C-99C3-3087DE8C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0545-31F2-42F8-8BDE-C131C6EC7C3D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ED40-C664-41F8-877B-1C3ACB852F0A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141C-9AA8-44D2-812F-54E44C2508E4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CD37-0224-48A7-8F17-13B2345B9DF3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6480"/>
            <a:ext cx="7785000" cy="688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Keterampilan berbahas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anguage arts/ language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 dalam kurikulum sekolah biasanya mencakup empat segi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yimak/ mendengarkan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isten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Berbicar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speak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mbac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read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ulis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writ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MEMBACA SEBAGAI SUATU KETERAMPILA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785880"/>
            <a:ext cx="8715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membaca mencakup tiga komponen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pengenalan terhadap aksara serta tanda bac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orelasi aksara beserta tanda-tanda baca dengan unsur-unsur linguisti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69200" indent="-78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form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lebih lanjut dari A dan B dengan makna atau 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MEMBA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bentuk huruf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Keterampilan mekanis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unsur-unsur linguisti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hubungan bunyi dan huruf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epat lambatnya memba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pemahaman pengertian sederha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signifikasi/ mak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pemahaman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evaluasi/ penilaian isi dan bentu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cepatan membaca : fleksibel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traight Connector 4"/>
          <p:cNvSpPr/>
          <p:nvPr/>
        </p:nvSpPr>
        <p:spPr>
          <a:xfrm>
            <a:off x="1500120" y="4929120"/>
            <a:ext cx="28584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6"/>
          <p:cNvSpPr/>
          <p:nvPr/>
        </p:nvSpPr>
        <p:spPr>
          <a:xfrm flipV="1">
            <a:off x="1785960" y="385740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2"/>
          <p:cNvCxnSpPr/>
          <p:nvPr/>
        </p:nvCxnSpPr>
        <p:spPr>
          <a:xfrm>
            <a:off x="1785960" y="385776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0" name="Straight Arrow Connector 14"/>
          <p:cNvCxnSpPr/>
          <p:nvPr/>
        </p:nvCxnSpPr>
        <p:spPr>
          <a:xfrm>
            <a:off x="178596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Straight Connector 18"/>
          <p:cNvSpPr/>
          <p:nvPr/>
        </p:nvSpPr>
        <p:spPr>
          <a:xfrm>
            <a:off x="4214880" y="392904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0"/>
          <p:cNvSpPr/>
          <p:nvPr/>
        </p:nvSpPr>
        <p:spPr>
          <a:xfrm flipV="1">
            <a:off x="4429080" y="3714480"/>
            <a:ext cx="0" cy="857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>
            <a:off x="4429080" y="37148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4" name="Straight Arrow Connector 25"/>
          <p:cNvCxnSpPr/>
          <p:nvPr/>
        </p:nvCxnSpPr>
        <p:spPr>
          <a:xfrm>
            <a:off x="4429080" y="39290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5" name="Straight Arrow Connector 28"/>
          <p:cNvCxnSpPr/>
          <p:nvPr/>
        </p:nvCxnSpPr>
        <p:spPr>
          <a:xfrm>
            <a:off x="4429080" y="4285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6" name="Straight Connector 36"/>
          <p:cNvSpPr/>
          <p:nvPr/>
        </p:nvSpPr>
        <p:spPr>
          <a:xfrm>
            <a:off x="4429080" y="571500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38"/>
          <p:cNvSpPr/>
          <p:nvPr/>
        </p:nvSpPr>
        <p:spPr>
          <a:xfrm flipV="1">
            <a:off x="4714920" y="5144760"/>
            <a:ext cx="1440" cy="78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44"/>
          <p:cNvCxnSpPr/>
          <p:nvPr/>
        </p:nvCxnSpPr>
        <p:spPr>
          <a:xfrm>
            <a:off x="4714920" y="514368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Straight Arrow Connector 46"/>
          <p:cNvCxnSpPr/>
          <p:nvPr/>
        </p:nvCxnSpPr>
        <p:spPr>
          <a:xfrm>
            <a:off x="4714920" y="5428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Straight Arrow Connector 48"/>
          <p:cNvCxnSpPr/>
          <p:nvPr/>
        </p:nvCxnSpPr>
        <p:spPr>
          <a:xfrm>
            <a:off x="471492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1" name="Straight Arrow Connector 51"/>
          <p:cNvCxnSpPr/>
          <p:nvPr/>
        </p:nvCxnSpPr>
        <p:spPr>
          <a:xfrm>
            <a:off x="4714920" y="592884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Straight Arrow Connector 26"/>
          <p:cNvCxnSpPr/>
          <p:nvPr/>
        </p:nvCxnSpPr>
        <p:spPr>
          <a:xfrm>
            <a:off x="4429080" y="4572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28760" y="99972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mprehensi  membaca  = hambatan dalam mengingat dan memecahkan masal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aha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otiva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membaca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ep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mbangan konse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seluruhan pengalam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4"/>
          <p:cNvSpPr/>
          <p:nvPr/>
        </p:nvSpPr>
        <p:spPr>
          <a:xfrm>
            <a:off x="4143240" y="242892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9"/>
          <p:cNvSpPr/>
          <p:nvPr/>
        </p:nvSpPr>
        <p:spPr>
          <a:xfrm>
            <a:off x="3643200" y="3357720"/>
            <a:ext cx="5000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1"/>
          <p:cNvCxnSpPr/>
          <p:nvPr/>
        </p:nvCxnSpPr>
        <p:spPr>
          <a:xfrm>
            <a:off x="4143240" y="242892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Straight Arrow Connector 13"/>
          <p:cNvCxnSpPr/>
          <p:nvPr/>
        </p:nvCxnSpPr>
        <p:spPr>
          <a:xfrm>
            <a:off x="4143240" y="292896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8" name="Straight Arrow Connector 15"/>
          <p:cNvCxnSpPr/>
          <p:nvPr/>
        </p:nvCxnSpPr>
        <p:spPr>
          <a:xfrm>
            <a:off x="4142880" y="335772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9" name="Straight Arrow Connector 17"/>
          <p:cNvCxnSpPr/>
          <p:nvPr/>
        </p:nvCxnSpPr>
        <p:spPr>
          <a:xfrm>
            <a:off x="4142880" y="385776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0" name="Straight Arrow Connector 19"/>
          <p:cNvCxnSpPr/>
          <p:nvPr/>
        </p:nvCxnSpPr>
        <p:spPr>
          <a:xfrm>
            <a:off x="4143240" y="4285800"/>
            <a:ext cx="8582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FAKTOR-FAKTOR</a:t>
            </a: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 YANG MEMPENGARUHI KOMPREHENSI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Faktor-faktor yang mempengaruhi komprehensi membaca dibedakan menjad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ua, yaitu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linguisti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min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motivas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kemampu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ks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bedakan menjadi dua kategor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nsur-unsur bacaan/ ciri-ciri tekstu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kebahasaan teks (kesulitan bahan baca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organisasi teks (bab, subbab, susunan tulis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ualitas lingkungan p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persiapan guru sebelum, pada saat, atau setelah pelajar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una menolong siswa memahami te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suasana umum penyelesaian tugas (hambatan, dorongan, dsb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NYAR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nyaring adalah suatu aktivitas atau kegiatan yang merupakan ala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bagi guru, murid, ataupun pembaca bersama-sam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dengan orang lain atau pendengar untuk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nangkap serta memahami informasi, pikiran, dan perasaan seorang pengara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DALAM HA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urve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ekstensif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ekil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ngk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lam hat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intensi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traight Connector 4"/>
          <p:cNvSpPr/>
          <p:nvPr/>
        </p:nvSpPr>
        <p:spPr>
          <a:xfrm flipH="1">
            <a:off x="2998800" y="3929040"/>
            <a:ext cx="1440" cy="2073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8"/>
          <p:cNvSpPr/>
          <p:nvPr/>
        </p:nvSpPr>
        <p:spPr>
          <a:xfrm>
            <a:off x="3000240" y="60008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1"/>
          <p:cNvSpPr/>
          <p:nvPr/>
        </p:nvSpPr>
        <p:spPr>
          <a:xfrm>
            <a:off x="3000240" y="39290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4"/>
          <p:cNvSpPr/>
          <p:nvPr/>
        </p:nvSpPr>
        <p:spPr>
          <a:xfrm flipH="1">
            <a:off x="5500800" y="3286080"/>
            <a:ext cx="1440" cy="1214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16"/>
          <p:cNvSpPr/>
          <p:nvPr/>
        </p:nvSpPr>
        <p:spPr>
          <a:xfrm>
            <a:off x="5500800" y="3286080"/>
            <a:ext cx="4284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8"/>
          <p:cNvSpPr/>
          <p:nvPr/>
        </p:nvSpPr>
        <p:spPr>
          <a:xfrm>
            <a:off x="5500800" y="385776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20"/>
          <p:cNvSpPr/>
          <p:nvPr/>
        </p:nvSpPr>
        <p:spPr>
          <a:xfrm>
            <a:off x="5500800" y="450072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onstantia"/>
              </a:rPr>
              <a:t>Membaca ekstensif adalah membaca secara luas dimana objeknya sebanyak mungkin teks  dalam waktu yang sesingkat mungki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1. Membaca Surve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Penelaahan dengan cara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indeks-indeks, daftar kata-kata yang terdapat dalam buku-buku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-lihat, memeriksa, meneliti judul-judul bab yang terdapat dalam buku-buku yang bersangkutan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bagan, skema,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outline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buku yang bersangku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2. Membaca Sekil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baca sekilas (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skimming)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adalah sejenis membaca yang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membuat mata ki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ergerak dengan cepa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, memperhati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ahan tertulis untu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ncari serta mendapat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informasi dan penerang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da tiga tujuan utama dalam membaca sekilas ini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. untuk memperoleh suatu kesan umum dari suatu buku atau artikel, tulisan singka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. untuk menemukan hal tertentu dari suatu bahan bacaa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c. untuk menemukan/ menempatkan bahan yang diperlukan dalam perpustak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3. Membaca Dang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superficial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 pada dasarnya bertujuan untuk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peroleh pemahaman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dangkal yang bersifat luaran,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tidak mendalam dari suatu bah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ini biasanya dilakukan bila kita membaca demi kesenangan, membaca bacaan ringan yang mendatangkan kebahagiaan di waktu senggang, misalnya membaca cerpen, novel ringan, dsb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intensif adalah studi saksama, telaah isi, d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anganan terperinci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dilaksanakan di dalam kelas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terhadap suatu tugas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dek kira-kira dua sampai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empat halaman setiap har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gian dan teknik membaca intensif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kuesio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pola-pola 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kosa 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telaah kata-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k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skusi um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Yang termasuk ke dalam kelompok membaca intensif ini adalah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isi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content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bahasa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linguistic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bahasa Inggris, istilah </a:t>
            </a:r>
            <a:r>
              <a:rPr b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ahasa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aji ke dalam dua interpretasi, yaitu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rt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seni) yang dipergunakan untuk melukiskan sesuatu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onal, kreatif, dan original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kills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keterampilan) yang dipakai untuk menyatakan sesuatu 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kanis, eksak, impers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MPAT KETERAMPILAN BERBAHAS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78552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antara berbicara dengan menyimak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jaran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peech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dipelajari melalui menyimak dan meniru (imitasi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adanya pengaruh stimulus yang ditemui (contoh: desa ⪥ kota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ujaran anak mencerminkan domisili, misal: ucapan, intonasi, kosa kata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si, pola-pola kalima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berdasarkan faktor usia, anak yang lebih muda, lebih mudah pah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alimat yang jauh lebih panjang dan rumit daripada kalimat-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dapat diucapkan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e. meningkatkan keterampilan menyimak berarti meningkat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icara seseorang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f. bunyi atau suara merupakan suatu faktor penting dalam peningkat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ara pemakaian kata-kata anak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g. berbicara dengan bantuan alat-alat peraga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visual aid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ghasilkan penangkapan informasi yang lebih baik pada piha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yimak (Dawson (et al) 1963: 29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2520" indent="-925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 Hubungan antara menyimak dengan membac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ajaran serta petunjuk-petunjuk dalam membaca diberikan oleh guru melalui bahasa lis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yimak merupakan cara atau metode utama bagi pelajaran lis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erbalized learn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khususnya bagi golongan anak yang caca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Walaupun menyimak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listen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lebih unggul daripada membaca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ad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nak-anak sering gagal untuk memahaminya dan tetap menyimpan/ memakai/ menguasai fakta yang mereka denga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ara pelajar membutuhkan pola pengajaran menyimak lebih efektif dan lebih teratur agar memaksimalkan proses pembelajar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sa kata atau perbendaharaan kata menyimak yang sangat terbatas mempunyai kaitan dengan kesukaran-kesukaran dalam belajar membaca secara baik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2876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3. Hubungan antara menyimak dengan menuli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menyimak dengan baik akan memudahkan seorang anak dal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uangkan apa yang ada dalam interpretasinya secara terstrukt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esuai apa yang dipahami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Seseorang yang memiliki daya simak yang baik akan memiliki day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majinasi dan intuisi yang baik serta mampu mengapresiasi apa ya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 dalam pikirannya dengan tulis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KSPRESI LISAN DAN EKSPRESI TULI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4200" y="7855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B1 &amp; B2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Menyimak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Berbicar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Membac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Men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lisan: - kurang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sering berubah-ubah (tidak konsiste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iliki kecenderungan lebih kacau dan membingungk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daripada komunikasi t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adanya kemungkinan bergulirnya kalimat yang tak beruju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angkal serta berulang-ula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tulis : - cenderung lebih unggul karena lebih baik dalam penyampaian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isi pikir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kalimat yang tersaji lebih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formal dalam gaya bahasa dan jauh lebih teratur dalam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engertian ide-id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ungkinkan adanya kesempatan untuk memperbaiki kalimat-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kalimatnya beberapa kali sebelum dia menyelesaikan tulisanny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traight Connector 10"/>
          <p:cNvSpPr/>
          <p:nvPr/>
        </p:nvSpPr>
        <p:spPr>
          <a:xfrm flipH="1">
            <a:off x="4572000" y="1143000"/>
            <a:ext cx="1440" cy="35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2"/>
          <p:cNvSpPr/>
          <p:nvPr/>
        </p:nvSpPr>
        <p:spPr>
          <a:xfrm>
            <a:off x="1143000" y="1500120"/>
            <a:ext cx="67867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15"/>
          <p:cNvCxnSpPr/>
          <p:nvPr/>
        </p:nvCxnSpPr>
        <p:spPr>
          <a:xfrm flipH="1">
            <a:off x="114120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7" name="Straight Arrow Connector 17"/>
          <p:cNvCxnSpPr/>
          <p:nvPr/>
        </p:nvCxnSpPr>
        <p:spPr>
          <a:xfrm flipH="1">
            <a:off x="378432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Straight Arrow Connector 19"/>
          <p:cNvCxnSpPr/>
          <p:nvPr/>
        </p:nvCxnSpPr>
        <p:spPr>
          <a:xfrm flipH="1">
            <a:off x="5428440" y="1500120"/>
            <a:ext cx="252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Straight Arrow Connector 21"/>
          <p:cNvCxnSpPr/>
          <p:nvPr/>
        </p:nvCxnSpPr>
        <p:spPr>
          <a:xfrm flipH="1">
            <a:off x="792936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PENGERTIAN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85680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suatu proses yang dilakukan serta dipergunakan oleh pembaca  untuk memperoleh pesan, yang hendak disampaikan oleh penulis melalui media kata-kata/ bahasa tulis (Hodgson, 1960: 43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ri segi linguistik, membaca adalah suatu proses penyandian kembali dan pembacaan sandi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 recording and decoding prosess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, berlainan dengan berbicara dan menulis yang justru melibatkan penyandi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ncod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(Anderson, 1972: 209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pula diartikan sebagai suatu metode yang kita pergunakan untuk berkomunikasi dengan diri kita sendiri dan kadang-kadang dengan orang lain – yaitu mengkomunikasikan makna yang terkandung atau tersirat pada lambang-lambang tertul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didefinisikan penafsiran yang bermakna terhadap bahasa tulis (Haris dan Sipay, 1980: 447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pemberian makna terhadap tulisan, sesuai dengan maksud penulis (Emerald V. Dechant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komunikasi yang berupa pemerolehan informasi dari penulis kepada pembaca (Frank Smith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tanggapan terhadap pengertian yang dinyatakan penulis dalam kata, kalimat, paragraf, atau bentuk yang lebih panjang (David Russe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ujuan utama membaca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lah untuk mencari serta memperoleh informasi, mencakup isi,  dan memahami makna 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AKIKAT KOMPREHENSI MEMBAC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KBBI Pusat Bahasa dinyatakan bahwa makna dari komprehensi: bersifat mampu menangkap (menerima) dengan baik, luas dan lengkap (tentang ruang lingkup atau isi), mempunyai dan memperlihatkan wawasan yang lu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iga komponen utama komprehensi bacaa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odean kemba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erolehan makna leksi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Organisasi te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3:57:54Z</dcterms:created>
  <dc:creator>Sg_FuN</dc:creator>
  <dc:description/>
  <dc:language>en-US</dc:language>
  <cp:lastModifiedBy>Sg_FuN</cp:lastModifiedBy>
  <dcterms:modified xsi:type="dcterms:W3CDTF">2011-10-09T14:35:20Z</dcterms:modified>
  <cp:revision>41</cp:revision>
  <dc:subject/>
  <dc:title>KETERAMPILAN BERBAHASA</dc:title>
</cp:coreProperties>
</file>