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2BCD-0AEB-4BD3-9BD1-4C26D114D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FCA9-1C5A-4F0F-A73F-FB32AC88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9538-79CD-478C-A78B-9D178E70E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224C-80BD-4065-ABD9-4A9C6F015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D8E7-5D04-4900-8ABC-47CC08AA2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8821-200F-4ECF-BA6F-373DAFF59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D1C1-FFBA-4A02-9899-4CD9C804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553E-9E67-4686-9956-8BDE44A3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83EA-3EED-4D99-A0C1-D1191CB5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F5B6-FCF8-4B75-B42A-46097124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979E-35FB-4FE9-AFB4-6842D58A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600B-EBC2-457F-A3BB-2B1096DE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AFF57-7970-46C4-A8A9-A62367B5976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8600" y="4572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200" spc="-1" strike="noStrike">
                <a:solidFill>
                  <a:srgbClr val="000000"/>
                </a:solidFill>
                <a:latin typeface="comic"/>
              </a:rPr>
              <a:t>MENULIS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Pengertian paragraf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Paragraf merupakan inti penuangan buah pikiran dalam sebuah karangan  (Muhammad Rohmadi, dkk. 2008: 105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Keraf (dalam Muhammad Rohmadi, dkk. 2008: 105) menyebut paragraf dengan istilah alinea. Alinea adalah kesatuan pikiran yang lebih tinggi atau lebih luas dari kalima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atang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1800" spc="-1" strike="noStrike">
                <a:solidFill>
                  <a:srgbClr val="000000"/>
                </a:solidFill>
                <a:latin typeface="바탕"/>
                <a:ea typeface="바탕"/>
              </a:rPr>
              <a:t>Asul Wiyanto (2004: 15) paragraf adalah sekelompok kalimat yanag saling berhubungan dan bersama-sama menjelaskan satu unit buah pikiran untuk mendukung buah pikiran yang lebih besar, yaitu buah pikiran yang diungkapkan dalam seluruh tulis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57200" y="228240"/>
            <a:ext cx="8229600" cy="608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MACAM-MACAM  PARAGRAF DAN PENGEMBANGANNY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ada dasarnya macam paragraf dan pengembanganny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iklasifikasikan sebagai berikut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erdasarkan 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 tekniknya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a. secara alamiah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b. klimaks dan antiklimak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c. umum-khusu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Berdasarkan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ujuannya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. paragraf pembuka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. paragraf penghubung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. paragraf penutup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erdasarkan isi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. pertentangan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perbandingan (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nalogi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c. contoh-contoh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. sebab akiba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. definisi luas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f. klasifik</a:t>
            </a:r>
            <a:r>
              <a:rPr b="0" lang="id-ID" sz="17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i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304560"/>
            <a:ext cx="8229600" cy="60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id-ID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rdasarkan tujuan dan sifatny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. paragraf deskrip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. paragraf nara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. paragraf eksposi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. paragraf argumentas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. paragraf persuasi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ETAK KALIMAT UT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76176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a empat cara untuk meletakkan kalimat utama, yaitu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da awal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da akhir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da awal dan akhir paragra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npa kalimat utam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Baskerville Old Face"/>
              </a:rPr>
              <a:t>KEGUNAAN PARAGR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65120" indent="-34920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000000"/>
                </a:solidFill>
                <a:latin typeface="Baskerville Old Face"/>
              </a:rPr>
              <a:t>Kegunaan paragraf diantaranya yait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65120" indent="-34920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000000"/>
                </a:solidFill>
                <a:latin typeface="Baskerville Old Face"/>
              </a:rPr>
              <a:t>Untuk menandai paembukan topik baru, atau pengembangan lebih lanjut topik sebelumnya;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65120" indent="-34920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Baskerville Old Fac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000" spc="-1" strike="noStrike">
                <a:solidFill>
                  <a:srgbClr val="000000"/>
                </a:solidFill>
                <a:latin typeface="Baskerville Old Face"/>
              </a:rPr>
              <a:t>Untuk menambah hal-hal yang penting atau untuk merinci apa yang sudah diutarakan dalam paragraf sebelumnya atau paragraf yang terdahulu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465120" indent="-349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400" spc="-1" strike="noStrike">
                <a:solidFill>
                  <a:srgbClr val="000000"/>
                </a:solidFill>
                <a:latin typeface="Bernard MT Condensed"/>
              </a:rPr>
              <a:t>UNSUR-UNSUR PARAGRA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Asul Wiyanto (2004:20) menyatakan bahwa untuk menyusun paragraf secara logis dan sistematis maka diperlukan unsur paragraf antara lai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1. Transis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2. Kalimat topik atau kalimat uta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3. Kalimat penje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200" spc="-1" strike="noStrike">
                <a:solidFill>
                  <a:srgbClr val="000000"/>
                </a:solidFill>
                <a:latin typeface="Andalus"/>
                <a:ea typeface="Andalus"/>
              </a:rPr>
              <a:t>4. Kalimat pene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274320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600" spc="-1" strike="noStrike">
                <a:solidFill>
                  <a:srgbClr val="eeece1"/>
                </a:solidFill>
                <a:latin typeface="comic"/>
                <a:ea typeface="Arabic Typesetting"/>
              </a:rPr>
              <a:t>1. TRANSIS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295280"/>
            <a:ext cx="82296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Transisi terbagi menjadi beberapa hal di bawah ini, yaitu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1" lang="id-ID" sz="1600" spc="-1" strike="noStrike">
                <a:solidFill>
                  <a:srgbClr val="000000"/>
                </a:solidFill>
                <a:latin typeface="Calibri"/>
              </a:rPr>
              <a:t>Transisi berupa kata (kelompok kata)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, pada dasarnya dikelompokkan berdasarkan penanda hubungannya, antara lain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a. penanda hubungan kelanjutan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dan, serta, lagi pula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bahkan, kedua, ketiga, selanjutnya, akhirnya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b. penanda hubungan waktu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dahulu, sekarang, kini, kelak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nanti, setelah, sesudah, tahun depan, besok lusa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klimaks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paling..., se...nya, ter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d. penanda perbandingan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seperti, ibarat, sama, bak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e. penanda kontras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tetapi, biarpun, walaupun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urutan jarak: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di sana, di situ, dekat, sebelah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g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ilustrasi: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umpama, contoh, misalny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penanda sebab akibat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sebab, oleh sebab itu, oleh karena, dsb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 penanda syarat (pengandaian)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jika, kalau, jikalau, andaikata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seandainy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j.  penanda kesimpulan: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ringkasnya, kesimpulannya, garis besarnya,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id-ID" sz="1600" spc="-1" strike="noStrike">
                <a:solidFill>
                  <a:srgbClr val="000000"/>
                </a:solidFill>
                <a:latin typeface="Calibri"/>
              </a:rPr>
              <a:t>rangkuman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31800" indent="-268200" algn="just">
              <a:spcBef>
                <a:spcPts val="400"/>
              </a:spcBef>
              <a:buClr>
                <a:srgbClr val="000000"/>
              </a:buClr>
              <a:buFont typeface="Calibri"/>
              <a:buAutoNum type="alphaL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>
              <a:spcBef>
                <a:spcPts val="400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533520"/>
            <a:ext cx="822960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1" lang="id-ID" sz="2400" spc="-1" strike="noStrike">
                <a:solidFill>
                  <a:srgbClr val="000000"/>
                </a:solidFill>
                <a:latin typeface="Calibri"/>
              </a:rPr>
              <a:t>Transisi berupa kali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Kalimat yang digunakan sebagai transisi dikenal pula dengan istilah kalimat penuntun (prolo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Contoh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id-ID" sz="2400" spc="-1" strike="noStrike">
                <a:solidFill>
                  <a:srgbClr val="000000"/>
                </a:solidFill>
                <a:latin typeface="Calibri"/>
              </a:rPr>
              <a:t>Ringkasnya, morfologi adalah bagian dari ilmu bahasa yang membicarakan seluk beluk kata</a:t>
            </a:r>
            <a:r>
              <a:rPr b="0" i="1" lang="id-ID" sz="2400" spc="-1" strike="noStrike">
                <a:solidFill>
                  <a:srgbClr val="000000"/>
                </a:solidFill>
                <a:latin typeface="Calibri"/>
              </a:rPr>
              <a:t>. Yang dibicarakan dalam morfologi adalah perubahan-perubahan bentuk kata, baik dengan afiksasi, reuplikasi, maupun komposisi.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. </a:t>
            </a:r>
            <a:r>
              <a:rPr b="1" lang="id-ID" sz="2400" spc="-1" strike="noStrike">
                <a:solidFill>
                  <a:srgbClr val="000000"/>
                </a:solidFill>
                <a:latin typeface="Calibri"/>
              </a:rPr>
              <a:t>Transisi berupa paragraf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59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000000"/>
                </a:solidFill>
                <a:latin typeface="Calibri"/>
              </a:rPr>
              <a:t>Adakalanya transisi berupa paragraf pendek. Transisi ini digunakan untuk membelokkan pembahasan dari satu pokok pikiran ke pokok pikiran yang lain. Paragraf ini berfungsi untuk menjembatani paragraf sebelumny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41800" indent="-406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45720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Kalimat Ut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limat Utama  adalah kalimat yang mengadu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okok  pikiran  paragra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limat penjel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nurut Asul Wiyanto (2006: 27-30) menyatakan bahwa kalimat penjelas berisi pikiran penjelas yang di wujudkan dalam kalimat-kalimat yang isinya menjelaskan, merinci, membandingkan atau memberi contoh secara khus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alimat pene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ehadiran kalimat penegas dalam suatu paragraf tidak mutlak. Artinya, boleh ada, boleh tidak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YARAT-SYARAT  PEMBENTUKAN PARAGRA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syaratan paragraf yait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esatuan (kohes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aragraf dianggap mempunyai kesatuan jika kalimat-kalimat dalam paragraf itu tidak terlepas dengan topiknya atau relevan dengan topi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epaduan (koherensi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alimat antar paragraf haruslah memiliki hubungan timbal balik, adapun kepaduan sebuah paragraf dibangun dengan memperhatika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. unsur kebahasaan yang digambarkan denga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1) repetisi atau pengulangan kata kunc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) kata ganti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3) kata transisi atau ungkapan penghubu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. pemerincian dan urutan isi paragra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Kelengkap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Calibri"/>
              </a:rPr>
              <a:t>paragraf harus memuat adanya kohesi dan koherensi secara utuh agar membentuk organisme kalimat yang mudah dipaham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47560" indent="-41112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533520"/>
            <a:ext cx="8229600" cy="57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Panjang paragraf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Paragraf  minimal harus terdiri dari dua kalimat panjang. Atau jika terdiri lebih dari tiga kalimat bisa menggunakan tiga kalimat pendek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Pola susunan paragraf</a:t>
            </a: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Pola susunan paragraf ada dua macam sebagaimana contoh beriku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a. 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650880" indent="-51444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4000" spc="-1" strike="noStrike">
                <a:solidFill>
                  <a:srgbClr val="000000"/>
                </a:solidFill>
                <a:latin typeface="Calibri"/>
              </a:rPr>
              <a:t>Lanjutan..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914400"/>
            <a:ext cx="8229600" cy="539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b. 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d-ID" sz="3000" spc="-1" strike="noStrike">
                <a:solidFill>
                  <a:srgbClr val="000000"/>
                </a:solidFill>
                <a:latin typeface="Calibri"/>
              </a:rPr>
              <a:t>--------------------------------------------------------------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7T13:14:16Z</dcterms:created>
  <dc:creator>User</dc:creator>
  <dc:description/>
  <dc:language>en-US</dc:language>
  <cp:lastModifiedBy>HEWLET PACKARD</cp:lastModifiedBy>
  <dcterms:modified xsi:type="dcterms:W3CDTF">2014-01-19T14:40:21Z</dcterms:modified>
  <cp:revision>24</cp:revision>
  <dc:subject/>
  <dc:title>Slide 1</dc:title>
</cp:coreProperties>
</file>